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68B-9425-4AEA-8E1D-4DB025C1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31C-D9CA-450E-9805-BE140D08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D0B74-269A-4B46-8416-DF6321B8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5155F-B6D6-40C1-B4B2-EBAFAD21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E2534-1743-464D-A78C-97E40451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8452B-D792-4814-A64C-4B35C3B1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32F85-63C1-4F84-9E45-9A9E9A4F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285D3-92D8-49FE-AEF3-2B2480D1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31FD1-B997-4799-8AB8-FD1427B8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61B44-D88D-4FD4-9D8A-E365AEC3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AE4D3-EDDB-46D2-956E-10D58DE7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C95D8-B50C-4F1B-B19F-58269965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DF5-5B47-43E9-ACCE-D52FABF5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53886-B69E-4FE0-B748-B0D55290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CCBA7-C74F-4D83-94C1-85B948FE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AF8FF-6688-4208-A453-3D0C3333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CD5BD-237A-4858-AEDC-7558ED53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09434-5045-4FE9-BFC6-EF121DE9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11547-96BE-4E97-BF81-0586E629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9C148-6004-4494-8E80-87E2E63A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E815B-2F49-4073-B152-5757739F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BF493-4406-4297-BA78-1CBC63B0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B93DD-986A-4B38-9D7C-3E2F33FF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63D-D80E-4CF2-B187-587DA79F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5E26E-1DA5-47D2-817F-BAB43A5F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DD31A-402A-4E57-9A2D-6E0E8863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AE4F9-B157-4FD4-A93A-4A980E1D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66798-AB8A-4767-8F4E-A5BC71BC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B8B73-DEC2-4947-8761-BB4D2132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1E14F-5A08-4377-BF38-EE5C5CAF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A8E3F-B57E-471B-A232-FEA08BB8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31B49-4C07-4B74-AD07-A5798633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A6087-15EE-4A16-B9F4-4B0AC75B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981E3-5875-4257-B56F-1F5A517C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94BE-3A45-4609-A5F6-C04C28A1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41E61-2489-4C0D-B39A-60ED7901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07CBA-CFA4-4CE4-9FA4-9C5147A2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83B46-8B6E-4FF4-BB5D-B0B98CBA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13771-8CE2-4BE3-BF97-570274E6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5E234-A25D-4DF1-BB38-F729D3F1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835AA-4C06-471B-A956-4A35750B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F2FB0-55C9-41D1-9195-4CB27549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55306-8A03-4937-9FC9-274B479B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DCA37-4E72-417A-8C54-429A174B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31AA2-F9F3-4D66-A55C-62CDCB71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F342-D902-4074-A3E7-406EC2B1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F5CCF-028F-464C-A16D-9A1F0D95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3614C-BFB3-4870-9411-852D489E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7C7A3-275D-4591-9A5A-E698A023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CBF73-9F14-463D-AD83-5F09DC7B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C715D-AF75-42D7-A44E-9BB2EB3F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97212-A4FA-428B-A192-4C12498F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34383-C6AD-4AA4-A9B8-174E7033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4EDEC-ECE3-4F39-96F7-41C44523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C5336-B6D3-4DFA-B115-BD4240B3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B497B-85EC-4FBE-86D7-08C9B456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B792-5D53-4824-813F-EF95ED48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B489F-5EE0-40AA-9605-9FAFDBEC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0109F-052C-4357-AA5E-F41F143C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DD6C9-3CBF-4876-B54F-58782344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9E5EF-83B3-480E-95A1-FE85978D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0DECE-C568-4B92-BE33-357DE799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6C328-EEDE-4F0F-91D8-C38404C2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068A3-CB69-4008-A31E-24227ACE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36A61-301F-4017-A91C-3A032394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72E38-0163-4E18-90B9-9E6B916D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FD27F1-665E-4918-B01B-11900126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3F0C-D57F-4C23-82D2-6BBDF647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37B3A9-3140-4E78-A0D8-81773F9E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1B4FE-6A56-4B06-AB67-248DF9F4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34D3B-BC3E-4E50-BEAB-340DC81A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2CA89-C2FE-46DB-B888-D180E5B9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36041-A88F-41AA-B387-1C67DF46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A1BDA-68E0-4D1F-B771-B6267206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0766E-3149-460C-A273-4198F3D9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BA3AE-A770-436B-8714-C2934021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93BB8A-CF7E-40B4-9CC7-DE1FC07D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494EF-D07F-439E-BCD7-C9C77974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DEFD-0991-4AD0-B0FB-235FACCC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CA7C03-844F-4C9A-A0CA-788A2269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D30B3-838E-47ED-8192-4A93E28E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5265B1-AD64-4FDB-912C-4341C126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EC732-2B16-4B1E-9378-A9CA1203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CF9CD-AC5D-4B2C-94FD-C6C6AD09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EB1D68-5841-4828-B9A2-922526B6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294ADC-687C-41ED-B240-E6DC3218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14ED2-7932-4E54-BBC1-FFB40759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1CCCC9-AD85-4605-AC45-C6EF7DFA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2901F-3E9F-4141-AD62-012C6FBC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42BB-9FDF-4360-A433-C3010E0A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5D8BEE-75B3-4B30-8135-B696336C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83163C-CE79-48BC-A62F-A57C0A9C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C5A4F1-F98E-4B1C-9405-4BFE504E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427476-0E33-4B75-8FE5-AD6D0A99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9801C4-1820-412F-91B2-7F17EB98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8A895-4821-433E-80E8-414F7D9B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40BE2-9FB4-475C-90FC-D3060341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FC887B-83AB-4B92-BCE8-928B7F56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E16860-F320-4E40-92B4-EEB5877A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2B371B-A676-4372-8A38-BEEF8164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44C6-0C78-4E21-97E9-DB3BB249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DD1FF9-C7B4-4BAF-AA5A-F1CDD403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AEE42C-7028-4A54-97A4-D812D467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576DC9-2A7E-439D-8B24-5D8C0408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8EB643-26B8-497C-8B14-3B0582A8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FAAF0-622C-4249-BF4A-C267DF13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83EAAC-EBEA-454D-B3C3-DEE52385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88EE62-F929-4261-99DC-D69F6EFD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886FC-447C-4204-837B-F7A25154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804B11-DA9A-414E-9588-961886B9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D46830-D61A-4D9E-BB06-8933EE66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966-DCB4-49F6-AA9C-ABAE6A97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3F51-86C5-481C-9C3A-56AA6FFB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2186A7-EF88-4F40-9D66-4C4632DA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ADE3C0-36D9-4988-9A83-2DD0E09F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003BFE-BC58-40CE-8657-4A1B789E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A6B1B-6903-4062-83E7-97666450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06DD7-F2B0-4ECB-B555-73026330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662E7E-1D70-4D1B-A3A3-AC3540F6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00EA32-817A-418A-A4F3-A2D934A8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6260AE-E69D-4626-99CA-A92A2524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D8409-AA99-40A8-A248-3BEC0CD3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8D786-B39A-4706-BD97-3BDC9A62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3B43-9921-4EA2-989B-596B32F7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8F732E-2957-4DF7-8868-4844889E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B66706-864E-4B87-91C9-55302377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6CED61-7307-4097-96D2-7A5E5CBA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41E299-F46A-41ED-B8ED-844E4F9F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DA126-3AE0-4724-9F0C-34143957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041B97-2440-4DFE-849D-7BD45E9C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D7964-E608-4087-A687-BD5B8168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2CDBA2-2D28-423B-9242-06EBF04B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DFE43C-8686-4A20-984B-F9B689DC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360DC4-E682-4786-B6B0-8C840493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2EFE-6635-4E0B-AF98-D895F0E3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8146A3-BA8E-4CD4-9761-A39125DA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C5CAF8-B02E-40CE-AC28-42FA2811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AE8BBC-4F10-4006-8D3A-B9E652C0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18D45B-F2D9-43A2-98D6-7F1C3781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69372A-81AD-44DA-B238-54B15AC0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1E54F0-59E5-4430-94AB-CFEF83B6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BB15EB-8E77-4B7C-AB84-87E5CBCB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2B0675-D831-44FD-81A0-B7A79F40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B54D8B-BD3B-439E-BD50-13197666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D614EA-9C10-4B30-8D9F-A4107A3C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EED2-D81D-46E7-81E9-2AA445E4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DFCBB0-BA0F-4280-BF27-BF0690D8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A083BE-B4C0-412F-A7C7-72C35289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E21BD1-9B7D-43DB-98B9-AC808898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7BB563-EBA0-4746-9E63-10FDB9AD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BE9548-F3FB-44AF-AFA7-76E2440C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549986-0B2D-4D24-A9BD-D92736E4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653727-4303-4F04-B3BF-D7E30945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6DAAE-21C4-46C0-A0AC-A79EC9E2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7B4FB8-26F6-4D58-8420-278A90C9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CC7D33-461D-44B9-8D25-25E9ADC8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3A34-62C0-48D6-990D-85F834F2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97618C-1DFF-4118-B068-B007273D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358CF3-476B-4028-AD94-40E08EB5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0CFC8E-63FA-4BF1-AC3E-3C11780F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24996D-222B-4483-B625-A19156B1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452412-61E7-41AD-952B-845622CA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BDC10F-FA0C-48B8-9D03-71DBBF0B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6C86C6-613E-4E16-ACE3-6D288EF3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B0F9A6-72C9-4F0B-B412-8F775104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6506CF-398C-45F6-BF80-A9DD33A8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8B704F-C0F0-4737-8078-D2DEB4BB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B46A3-DDF4-4CDB-A913-37FF372E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052502-A340-4F9F-82CC-B5A1B448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4F4089-11BB-44B4-9A11-BBAA5FB3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1208E5-C702-4C4B-99D6-714755A6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6995B-190A-4598-9861-7BAEB57E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D1034-89EA-44C6-84C4-5852AA51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B0934-1FAD-42D1-8BB0-D028A5A2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DEEDC-B469-4AA9-A615-1488141D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072-32CA-465A-BDAB-8BE790BF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78499-F2B5-463C-96B3-A1C7283C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E7ADA-0BCE-406C-8970-88692900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147EC-B354-4070-A02B-88A23C2B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9C525-CC06-471D-826C-696AB142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882A5-CF54-46F3-A8D3-91CE14A6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DAD65-B80C-469A-B58C-39124243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0E53-ED4E-4297-8C8C-B95944F3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B3BD2-5394-47DF-A03E-A30E8934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228ED-0122-41AE-B393-4AEB04D9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E5AF0-E850-4277-854A-EE265139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E25-F6F8-479F-B127-2EF990CC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AC16D-1699-44D7-8BD4-220C8E8A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CDA93-F593-4214-BD50-75C264C5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2E468-C488-471C-BBDD-93FA51B8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8CDA8-C815-4839-AD4E-E8EC10C2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F64B9-25D0-4EC4-A8AA-7D1D0E12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005D8-23B1-4E37-A3C6-4691F4B9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AB9D5-A72D-49CB-B17B-25EAFCB5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CF43-51AE-4205-9525-36D7DB1B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7F3F5-A640-4051-BE5C-30D23377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FF0DB-AA0D-4F24-9E76-F1416889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C4C-BC67-4EFB-BAF6-D95A924C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BE941-35FD-45FC-A36A-FFCB786E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940A6-85DD-4164-96D0-0FB813DC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05051-01F0-451B-9C91-9C8D6ABE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BD89E-509F-4565-BC52-5BD7D95B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E97BC-F3EC-4D47-93C0-7D03789F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51980-D821-4700-91AC-CA375959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8F628-408B-45CF-8FD2-A66DF111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B4AAF-C5E0-48B1-9CAA-AE6DF1E5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F23B9-AA70-4F74-A45C-7ABEA99A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2AF10-E034-47B0-81EF-72217F9F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357-AE77-451F-8000-BD6253C0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CA5FD-5D45-4791-97CC-EB6AF870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2A07D-5BCA-4FE5-93FD-C99DF3DC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7D2FE-ED5A-4139-B132-95FAC46E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A652D-A04A-4B57-A4C3-38A8F79B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B4303-3D2C-4AA7-A481-7ED226BA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52DD2-F0BE-45E5-A94C-83F54E6A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25E37-4A86-47A5-B330-81842FA4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D667E-E159-4314-99FD-D7A439EC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ADB61-CEE3-46D4-8491-24CD532F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AA90C-3DBA-4F25-B15E-7D58BDF6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990-C7FE-42DF-9F80-2CBA5B0B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DF2BF-172D-4A30-AE20-04EEBFAC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EDEA0-23AB-415E-A301-AF3E76E5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66B15-078D-417B-800E-985284A6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37F05-0295-4559-8F97-31049404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4C297-5234-4DC6-8731-15BADD32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30805-63C4-4429-A1FE-7C53A575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89127-4072-4BEE-9D1F-F6949B65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67DEC-9E30-4C5D-987D-C7BCF786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B7625-B3B2-4734-BD53-962446A2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6ABB6-AA06-4ECA-8ED5-766C7576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DA3-E25A-4C26-B0E4-ECFA81C0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FD83E-A4E4-4F68-AC20-50EBDE55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4812A-7BB4-4828-B486-4003309F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CEEB7-B06C-4E34-8236-5DDAF378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37F28-7A05-4A78-853F-7ECF1680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C5B43-E1FF-4132-9C17-71CB4480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F5E41-F215-4506-9995-4B46624C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820D7-5C29-4DE1-8D78-1BF6F28D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605CC-9F91-498D-941F-20C9A69E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DF4EF-943A-478E-B079-353749D8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4B165-6EE2-43F9-B706-5EA81829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712-79D6-4EE6-9518-C6D38BA5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AB79B-A7E8-4B68-BBA8-CC4E3D01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3DACA-DC90-4B82-A787-1AAF30C7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48548-9ADA-4793-AD73-C023A26E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82743-EC04-4395-BCF3-60B0FEB5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931D5-320A-4295-9F9B-FE47F3D5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93358-C3B0-4218-8D8D-CC56C427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3351F-695D-45F1-A6FC-53720AD2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0DC5A-1AD8-4807-8E0C-26FCE539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C0C67-15B3-48BB-8813-FFFCB677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04E59-8E11-4B64-BB22-D48FF80B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DB8B-497F-491B-A888-AF2D0C6EEB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4E95-FB66-43F5-B130-1ACEC8D035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30D4-4760-4863-BEAF-463336DAB7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467C-D590-4816-B8E5-AD5A7BD7EC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3B92-C692-4281-9662-87D39A59F7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FD60-635B-4565-9103-C8BCF2F782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BB74-4D54-47FD-BE90-F6665A4A99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88ED-9C75-4B7D-8C8D-3F8BF4CAB3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480E-581A-4A56-ABB9-5E53362E49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F3FF-4576-49D6-9F62-466534F010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ED79-FD8A-4E18-B266-B0BC0219B5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DA62-2FA7-4DF8-947A-12EB21BAF1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01CE-BFE9-469F-B945-6EBF42068C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EB36-3B64-47A7-B589-36C2D2262E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FCC8-E802-43F2-AC59-164EA51470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6DEA-8A85-4FBC-8B58-C43B973178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46DC-96EB-486C-9BBF-1585102F69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A193-DD90-465D-8639-9E3CCCBC7A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058D-5F66-49F4-8280-6078FE4083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3F41-E2AB-4CC7-B939-758C70D3C1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B8A0-C692-426F-B00B-0C5BCDF551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4FE2-6CA8-44B8-8EF4-8C0C3CC344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04D6-5AB1-467E-A605-C9B93E46FA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6DB5-03CB-42DB-A66E-110B6156B7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CC4C-7A18-466D-BB09-DEF5FFBBCB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E7DB-5D67-4C03-BE8C-CA6E127DB3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89DF-E5BF-4DFD-9992-441353F3B2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C620-6713-46F4-9729-50561F495D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95CB-5CC2-4F83-882B-DB45B50994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9DA3-8365-47F6-937E-6261B9188C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7097-0086-4049-8651-429860AA6C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6095-EE9B-414B-894D-32B6CC1E23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3EB6-253C-4944-B323-181E0742F7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E7AF-D4B4-42B4-AB44-F7C11EE54C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2211-ACF4-4C4E-BBB2-C6593F3BEB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983C-DE24-431A-8515-D1049E91CA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C308-070E-4358-913E-EB3D4EF62D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795B-E501-4E5C-93B0-82A0D25080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4272-390C-403A-B276-A77A44A097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31AF-AA88-4F58-8733-3FC6FB968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81160" y="2705040"/>
            <a:ext cx="6781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9" descr=""/>
          <p:cNvPicPr/>
          <p:nvPr/>
        </p:nvPicPr>
        <p:blipFill>
          <a:blip r:embed="rId1"/>
          <a:stretch/>
        </p:blipFill>
        <p:spPr>
          <a:xfrm>
            <a:off x="204840" y="1090440"/>
            <a:ext cx="8734320" cy="4677120"/>
          </a:xfrm>
          <a:prstGeom prst="rect">
            <a:avLst/>
          </a:prstGeom>
          <a:ln w="0">
            <a:noFill/>
          </a:ln>
        </p:spPr>
      </p:pic>
      <p:sp>
        <p:nvSpPr>
          <p:cNvPr id="923" name="椭圆 60430"/>
          <p:cNvSpPr/>
          <p:nvPr/>
        </p:nvSpPr>
        <p:spPr>
          <a:xfrm>
            <a:off x="2800440" y="2565360"/>
            <a:ext cx="936360" cy="86364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椭圆 60431"/>
          <p:cNvSpPr/>
          <p:nvPr/>
        </p:nvSpPr>
        <p:spPr>
          <a:xfrm>
            <a:off x="4313160" y="2506680"/>
            <a:ext cx="936720" cy="86364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60433"/>
          <p:cNvSpPr/>
          <p:nvPr/>
        </p:nvSpPr>
        <p:spPr>
          <a:xfrm>
            <a:off x="1187280" y="515772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矩形 60434"/>
          <p:cNvSpPr/>
          <p:nvPr/>
        </p:nvSpPr>
        <p:spPr>
          <a:xfrm>
            <a:off x="3822840" y="5184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矩形 60435"/>
          <p:cNvSpPr/>
          <p:nvPr/>
        </p:nvSpPr>
        <p:spPr>
          <a:xfrm>
            <a:off x="5148360" y="5157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矩形 60436"/>
          <p:cNvSpPr/>
          <p:nvPr/>
        </p:nvSpPr>
        <p:spPr>
          <a:xfrm>
            <a:off x="7956720" y="5157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343080" y="2104920"/>
            <a:ext cx="8458200" cy="26481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1116000" y="4437000"/>
            <a:ext cx="57636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3203640" y="4437000"/>
            <a:ext cx="57636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5003640" y="442764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7164360" y="4427640"/>
            <a:ext cx="576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219240" y="1386000"/>
            <a:ext cx="8705520" cy="408600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58375" descr=""/>
          <p:cNvPicPr/>
          <p:nvPr/>
        </p:nvPicPr>
        <p:blipFill>
          <a:blip r:embed="rId2"/>
          <a:stretch/>
        </p:blipFill>
        <p:spPr>
          <a:xfrm>
            <a:off x="587520" y="2624040"/>
            <a:ext cx="6000480" cy="138132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8376" descr=""/>
          <p:cNvPicPr/>
          <p:nvPr/>
        </p:nvPicPr>
        <p:blipFill>
          <a:blip r:embed="rId3"/>
          <a:stretch/>
        </p:blipFill>
        <p:spPr>
          <a:xfrm>
            <a:off x="1459080" y="4508640"/>
            <a:ext cx="350640" cy="38556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58377" descr=""/>
          <p:cNvPicPr/>
          <p:nvPr/>
        </p:nvPicPr>
        <p:blipFill>
          <a:blip r:embed="rId4"/>
          <a:stretch/>
        </p:blipFill>
        <p:spPr>
          <a:xfrm>
            <a:off x="4365720" y="4527720"/>
            <a:ext cx="350640" cy="38556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58378" descr=""/>
          <p:cNvPicPr/>
          <p:nvPr/>
        </p:nvPicPr>
        <p:blipFill>
          <a:blip r:embed="rId5"/>
          <a:stretch/>
        </p:blipFill>
        <p:spPr>
          <a:xfrm>
            <a:off x="7112160" y="4522680"/>
            <a:ext cx="350640" cy="38592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58379" descr=""/>
          <p:cNvPicPr/>
          <p:nvPr/>
        </p:nvPicPr>
        <p:blipFill>
          <a:blip r:embed="rId6"/>
          <a:stretch/>
        </p:blipFill>
        <p:spPr>
          <a:xfrm>
            <a:off x="1476360" y="5013360"/>
            <a:ext cx="351000" cy="38556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58380" descr=""/>
          <p:cNvPicPr/>
          <p:nvPr/>
        </p:nvPicPr>
        <p:blipFill>
          <a:blip r:embed="rId7"/>
          <a:stretch/>
        </p:blipFill>
        <p:spPr>
          <a:xfrm>
            <a:off x="4356000" y="5013360"/>
            <a:ext cx="351000" cy="38556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8381" descr=""/>
          <p:cNvPicPr/>
          <p:nvPr/>
        </p:nvPicPr>
        <p:blipFill>
          <a:blip r:embed="rId8"/>
          <a:stretch/>
        </p:blipFill>
        <p:spPr>
          <a:xfrm>
            <a:off x="7904160" y="5013360"/>
            <a:ext cx="3510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13:21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